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680-8914-40F4-A986-0BB1641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815-D568-4329-9C73-AC27213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E9D-E7E0-46F9-8A30-BC4B5E37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96D-DDD5-4DDF-8B9B-42572343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352F-DE1F-4668-8E4D-186C7A15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35E1-958E-4519-96D9-9678FD85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9577-82D0-4F89-BAED-8C396A0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E54-B6BF-48D9-9E8C-2640ACA5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A80-A127-40A3-9986-FF028A05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E1A0-5B98-432E-8AD6-8C8C9DCC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CD18-A0C7-45A9-9D17-F0D634C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9C0-72E7-467C-A550-460992E9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D224-E397-4E90-9A83-5F2C69E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8EE-BFC4-4385-B31D-42F5D76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00EE-9E2D-43E2-8FF6-D48C90CE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51DE-7F14-4117-A4EA-7C844D8B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70F9-983D-40FC-A814-E125B237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338-07A0-42F6-BB1D-B566148F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83B-58F2-4250-95BA-9FE40B12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34E-5071-4F51-AD33-78EB4FA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3DC-CDDD-4B5F-A3CF-05B44B67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17D-468A-4AE5-9424-0C7EF34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A31-A72D-4FCB-9CEA-481185A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C8D-478C-4FB9-8669-25FC44A4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2523-7170-475B-89B4-E3CE753D6972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113D-6DCF-467B-947D-11A1C1B01A7A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600" spc="-1" strike="noStrike">
                <a:solidFill>
                  <a:srgbClr val="ffffcc"/>
                </a:solidFill>
                <a:latin typeface="Arial"/>
                <a:ea typeface="標楷體"/>
              </a:rPr>
              <a:t>有毒植物</a:t>
            </a:r>
            <a:endParaRPr b="0" lang="en-US" sz="7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eaeaea"/>
                </a:solidFill>
                <a:latin typeface="Verdana"/>
              </a:rPr>
              <a:t>                           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二年孝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          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李政德  黃宗傑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姑婆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姑婆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全株之汁液及塊莖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誤食易引起口部、喉部及胃部灼痛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姑婆芋"/>
          <p:cNvPicPr/>
          <p:nvPr/>
        </p:nvPicPr>
        <p:blipFill>
          <a:blip r:embed="rId1"/>
          <a:stretch/>
        </p:blipFill>
        <p:spPr>
          <a:xfrm>
            <a:off x="4427640" y="1773360"/>
            <a:ext cx="3889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西洋白花菜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西洋白花菜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全株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食用多量之莖葉，引起視覺模糊，四肢無力、瞳孔中度放大、對光反射遲頓等症狀，嚴重者在１～２日後完全失明、癱瘓等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西洋白花菜"/>
          <p:cNvPicPr/>
          <p:nvPr/>
        </p:nvPicPr>
        <p:blipFill>
          <a:blip r:embed="rId1"/>
          <a:stretch/>
        </p:blipFill>
        <p:spPr>
          <a:xfrm>
            <a:off x="4716360" y="1700280"/>
            <a:ext cx="3456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相思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 ： 相思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 種子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誤食種子，輕者有頭痛的症狀；嚴重者甚至死亡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相思樹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龍舌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龍舌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汁液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皮膚過敏者接觸汁液後，會引起灼痛，甚至產生水泡對眼睛也有相當的毒害作用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龍舌蘭"/>
          <p:cNvPicPr/>
          <p:nvPr/>
        </p:nvPicPr>
        <p:blipFill>
          <a:blip r:embed="rId1"/>
          <a:stretch/>
        </p:blipFill>
        <p:spPr>
          <a:xfrm>
            <a:off x="4932360" y="1557360"/>
            <a:ext cx="388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女貞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女貞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樹皮，葉及果實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誤食枝葉及樹皮後，出現四肢無力，黏膜輕度淤血，２～３天後死亡；吃進果實後，出現全身不適，無精打采等“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女貞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刺桐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刺桐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莖皮及種子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誤食生鮮的種子或其他部份，會造成中樞神經的破壞、引起頭昏、四肢無力等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刺桐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夜香木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夜香木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莖葉及花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誤食莖葉或花枝，出現心跳加快、腸胃發炎、脾腎充血。嚴重者昏迷，死亡。有些人吸入其花香後產生呼吸困難、頭痛、猛打噴嚏等病症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夜香木"/>
          <p:cNvPicPr/>
          <p:nvPr/>
        </p:nvPicPr>
        <p:blipFill>
          <a:blip r:embed="rId1"/>
          <a:stretch/>
        </p:blipFill>
        <p:spPr>
          <a:xfrm>
            <a:off x="4716360" y="1557360"/>
            <a:ext cx="374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粗肋草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粗肋草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全株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誤食莖葉會造成口舌發炎、腹瀉、胃痛等症狀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粗肋草"/>
          <p:cNvPicPr/>
          <p:nvPr/>
        </p:nvPicPr>
        <p:blipFill>
          <a:blip r:embed="rId1"/>
          <a:stretch/>
        </p:blipFill>
        <p:spPr>
          <a:xfrm>
            <a:off x="4356000" y="1557360"/>
            <a:ext cx="4103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使君子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使君子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種仁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常發生頭痛、眩暈、噁心、嘔吐、、手腳冰冷等症狀，嚴重時有抽搐、呼吸困難、血壓下降等病症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使君子"/>
          <p:cNvPicPr/>
          <p:nvPr/>
        </p:nvPicPr>
        <p:blipFill>
          <a:blip r:embed="rId1"/>
          <a:stretch/>
        </p:blipFill>
        <p:spPr>
          <a:xfrm>
            <a:off x="4859280" y="1628640"/>
            <a:ext cx="3457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彩葉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文名：彩葉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有毒部位：葉片與塊莖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中毒症狀：誤食後嘴唇，口部和喉部都有麻痺和灼痛感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彩葉芋"/>
          <p:cNvPicPr/>
          <p:nvPr/>
        </p:nvPicPr>
        <p:blipFill>
          <a:blip r:embed="rId1"/>
          <a:stretch/>
        </p:blipFill>
        <p:spPr>
          <a:xfrm>
            <a:off x="4643280" y="141300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0:59:55Z</dcterms:created>
  <dc:creator>User</dc:creator>
  <dc:description/>
  <dc:language>en-US</dc:language>
  <cp:lastModifiedBy>user</cp:lastModifiedBy>
  <dcterms:modified xsi:type="dcterms:W3CDTF">2011-11-02T01:30:11Z</dcterms:modified>
  <cp:revision>3</cp:revision>
  <dc:subject/>
  <dc:title>有毒植物</dc:title>
</cp:coreProperties>
</file>