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B6A-2025-4832-A0B8-C2BCDA51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7F4-D446-4D0B-B037-749330FB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F8E-3CBD-445B-BAC2-F5CD203A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F63-C0D2-4420-8E7B-30E092E0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9A93-8E31-478A-BC87-D47900EF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DDF5-7667-409E-974D-4D36357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2B4-52C8-471D-80DC-2D633D50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015E-C537-4049-9CFA-AB0A21D6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2C49-6D9E-4A5F-AC8F-5F3E8ADF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A51C-EC00-42F2-9414-A4A44121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FADA-3C26-4970-8301-2737980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92A-B4B3-4D29-A031-5E771D41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0924-1F3A-405F-9B19-8654D7AB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4CAA-1190-4C0D-BC1A-61A3BD1F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FB77-6BAA-4A4F-AE57-AEE785A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D83D-4A1B-4057-85F0-28C24CC4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5D40-4E5D-4483-8D6B-ADB956FE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8DBD-A573-4DBF-9862-48A168B2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CD79-E430-4B72-84B4-8F5EABB0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6E87-F875-4780-A89A-70142A39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3CCB-6A0D-44D2-8FF2-FA22BE1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DC9F-A8C9-4B54-A198-D52AD053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69B-E2A3-4937-8B5A-3F2C22CF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A705-4D51-458C-9066-CB2A4E4B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5BBC-BFBA-45B0-A8A3-D4B04052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3EA7-1F85-4FF3-81D1-5276051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AAD5-9864-4DB7-A50B-C92F6A84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0172-6843-402C-BD2C-90865E20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F1E8F-E13F-4E4B-A6FB-6AC96E6D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7860-2FE0-4DEC-A8E6-B0BAF79A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221CB-EAE8-4B95-949A-B795B037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A5D0-07AB-429A-AA7E-92DCC7EE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6028-003C-486E-99FD-4BC231FA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006-E8B4-4027-9C6B-486E3F40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D445-0105-4AE8-818F-17422D2E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7C55-498A-4830-8C75-D7D65EDC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12E4-7B1C-4E23-8C02-796E7330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1D8C7-C178-4828-ADA9-64ADBD6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F290-B0DC-4E2C-891F-76158F8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C5C5-A07F-4582-A759-DB0A052C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6A94-26DB-429E-8D4C-FF3A68C4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4219-C2F5-4BD9-B9AC-2706262F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F6F9B-7D8F-4678-8865-E161D189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9C7D-714C-4DA5-BFBC-E5B41F5F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2E8-A953-40F1-AFE7-8FC036D6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05EB-D9DA-4027-8DF3-16D66C6F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8D5BC-72F8-4C43-A99E-1C721517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F959E-FD59-4EFA-B8FE-8791FCA7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73076-A032-4DBE-B5E9-82D047B3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DC1F2-EDAD-4E3E-BBBD-7068EF88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6F97D-848C-4B57-B502-B721F70D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11FD-BA33-416F-801B-9051EB7C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0A66-ACD7-48A5-8D0B-39EFB275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A124-03E5-42D1-BEAF-33E83FB9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672A-F35C-46D5-9D10-330D040B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D71-A512-4CBB-AFD9-3B377281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BA6B-47AE-4B33-A61B-B37193E2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E6C27-4318-4459-A401-A5D28A9B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75E2D-EEEC-4D8A-BF6A-FFDFBAD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1504-F4F5-4229-A3D6-88512971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D69AB-4668-4550-81C5-6DD90E4E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78101-B215-4209-8EAF-B45F084F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5DF1D-E51E-4A02-933F-D8FA6050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1A239-272A-4C15-99ED-5682078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88BE0-49E7-4FC5-8E6A-BB0117A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6A0D-F742-4CCC-98CB-08E215C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F42-5EE5-4C59-968B-DB7E917E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44194-CB45-4EA2-882B-281FB16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6529C-7AC8-40CB-8700-C14BC3C2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FBA36-59B3-4E2B-B505-625D5083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7AD-ABF9-49EB-A08C-D55E8E7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F39-F683-4527-A766-3E30F541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5b7d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2c6097"/>
              </a:gs>
              <a:gs pos="100000">
                <a:srgbClr val="88a5d1"/>
              </a:gs>
            </a:gsLst>
            <a:lin ang="16200000"/>
          </a:gradFill>
          <a:ln cap="rnd" w="3240">
            <a:solidFill>
              <a:srgbClr val="32588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＞形箭號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2c6097"/>
              </a:gs>
              <a:gs pos="100000">
                <a:srgbClr val="88a5d1"/>
              </a:gs>
            </a:gsLst>
            <a:lin ang="16200000"/>
          </a:gradFill>
          <a:ln cap="rnd" w="3240">
            <a:solidFill>
              <a:srgbClr val="32588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1b3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1b3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77ab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77ab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0C8D-46BA-40A5-A374-4E079BA5E99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1b3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1b3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77ab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77ab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365E-5635-4649-B949-8327348E636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1b3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1b3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77ab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77ab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DC3C-7B57-4FA1-90BD-BC618C7B0DB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手繪多邊形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5b7d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手繪多邊形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3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36" name="直線接點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7" name="＞形箭號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2c6097"/>
              </a:gs>
              <a:gs pos="100000">
                <a:srgbClr val="88a5d1"/>
              </a:gs>
            </a:gsLst>
            <a:lin ang="16200000"/>
          </a:gradFill>
          <a:ln cap="rnd" w="3240">
            <a:solidFill>
              <a:srgbClr val="32588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＞形箭號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2c6097"/>
              </a:gs>
              <a:gs pos="100000">
                <a:srgbClr val="88a5d1"/>
              </a:gs>
            </a:gsLst>
            <a:lin ang="16200000"/>
          </a:gradFill>
          <a:ln cap="rnd" w="3240">
            <a:solidFill>
              <a:srgbClr val="32588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1b3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1b3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77ab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77ab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5184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CD1F-52D5-4D84-8BFB-9691459B0D9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F34A-96AF-4C26-9EC4-40CAB3C8D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1316-753F-489A-8F46-1764F2E68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hyperlink" Target="http://1.5.ppt/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12.14.17.ppt/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標題 1" descr=""/>
          <p:cNvPicPr/>
          <p:nvPr/>
        </p:nvPicPr>
        <p:blipFill>
          <a:blip r:embed="rId2"/>
          <a:stretch/>
        </p:blipFill>
        <p:spPr>
          <a:xfrm>
            <a:off x="920880" y="1639800"/>
            <a:ext cx="7418160" cy="14875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285920" y="37148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imes New Roman"/>
              </a:rPr>
              <a:t>臺南市立竹橋國中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學校學生人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116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學校教師人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學校班級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一般班級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學校專科教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標題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21428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資訊設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一般教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固定式投影機及布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擋光性窗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小筆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多功能專科教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媒體教室：電子白板、監控設備、單槍、電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視聽教室：布幕、單槍、影音歌唱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語言教室：單槍、布幕、英語教學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電腦教室：學生用電腦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台、教師用電腦及監控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標題 1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網路環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有線網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所有教室及辦公室均設有網路接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無線網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無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涵蓋範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所有教室及行政區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使用對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僅供教師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標題 1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68360" y="198900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融入教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各領域有需要可自由借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國文領域：利用多媒體教室讓學生分組上網查資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如：自己名字的六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分類和自己名字的小篆如何書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綜合領域：讓學生上網查資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分組報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標題 1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905520" y="62064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2082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圖書館成立資訊專區供學生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查詢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使用數位教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產生數位作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電子借還書設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標題 1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11280" y="1125360"/>
            <a:ext cx="316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新細明體"/>
              </a:rPr>
              <a:t>學生作品欣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新細明體"/>
              <a:ea typeface="新細明體"/>
            </a:endParaRPr>
          </a:p>
        </p:txBody>
      </p:sp>
      <p:pic>
        <p:nvPicPr>
          <p:cNvPr id="27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1773360"/>
            <a:ext cx="3381480" cy="4508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2205000"/>
            <a:ext cx="481644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END~~~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3333cc"/>
                </a:solidFill>
                <a:latin typeface="Times New Roman"/>
              </a:rPr>
              <a:t>謝謝大家的聆聽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3333cc"/>
                </a:solidFill>
                <a:latin typeface="Times New Roman"/>
              </a:rPr>
              <a:t>歡迎大家給予指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21:01:25Z</dcterms:created>
  <dc:creator>OEM</dc:creator>
  <dc:description/>
  <dc:language>en-US</dc:language>
  <cp:lastModifiedBy>user</cp:lastModifiedBy>
  <dcterms:modified xsi:type="dcterms:W3CDTF">2011-11-04T03:33:32Z</dcterms:modified>
  <cp:revision>16</cp:revision>
  <dc:subject/>
  <dc:title>資訊融入教學成果報告</dc:title>
</cp:coreProperties>
</file>