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466-94F1-4336-86CA-18669E5C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F44-2014-4661-8BB3-5B3C107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579-39C9-4F87-985F-A6D74F2E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F2F-AFB5-4DCD-A1F5-50B8BA13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914-ABFD-4F1E-AB25-7BF1A4A3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A64-9273-44A9-92BF-4C6EF35E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A64-7D81-4852-857B-E8D7387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CF0-DCC8-493F-A50F-C0FC112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92C-D754-40E6-B8F9-E84DFD1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414-B685-4FC8-AAAC-215D1D8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A80-F99E-44EA-95DC-202E85A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F0B-55C4-45C8-A067-E39C95C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039-0DCE-4C6B-A2A4-CBB27ADB0D3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</a:rPr>
              <a:t>有毒植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號李佳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號張雅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號張育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姑婆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汁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塊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口部、喉部及胃部灼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河邊或陰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姑婆芋"/>
          <p:cNvPicPr/>
          <p:nvPr/>
        </p:nvPicPr>
        <p:blipFill>
          <a:blip r:embed="rId1"/>
          <a:stretch/>
        </p:blipFill>
        <p:spPr>
          <a:xfrm>
            <a:off x="826920" y="184464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彩葉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葉片與塊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嘴唇，口部和喉部有麻痺和灼痛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盆栽或庭園栽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彩葉芋"/>
          <p:cNvPicPr/>
          <p:nvPr/>
        </p:nvPicPr>
        <p:blipFill>
          <a:blip r:embed="rId2"/>
          <a:stretch/>
        </p:blipFill>
        <p:spPr>
          <a:xfrm>
            <a:off x="900000" y="1341360"/>
            <a:ext cx="33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紫藤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種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噁心、腹痛、腹脹、嘔吐、瀉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盆栽、棚架、圍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中國、日本及北美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紫藤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番茉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莖葉及根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四肢無力、、心律不整、顫抖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植及盆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熱帶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番茉莉"/>
          <p:cNvPicPr/>
          <p:nvPr/>
        </p:nvPicPr>
        <p:blipFill>
          <a:blip r:embed="rId1"/>
          <a:stretch/>
        </p:blipFill>
        <p:spPr>
          <a:xfrm>
            <a:off x="684360" y="1700280"/>
            <a:ext cx="3311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夜香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莖葉及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心跳加快、肌肉痙攣、腸胃發炎、脾腎充血、死亡、呼吸困難、頭痛、噁心、暈眩、常見地區：庭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熱帶美洲及西印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28" descr="夜香木"/>
          <p:cNvPicPr/>
          <p:nvPr/>
        </p:nvPicPr>
        <p:blipFill>
          <a:blip r:embed="rId1"/>
          <a:stretch/>
        </p:blipFill>
        <p:spPr>
          <a:xfrm>
            <a:off x="611280" y="1773360"/>
            <a:ext cx="352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龍舌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汁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皮膚過敏、灼痛、發癢、紅疹、水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盆栽庭園、栽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北美洲南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龍舌蘭"/>
          <p:cNvPicPr/>
          <p:nvPr/>
        </p:nvPicPr>
        <p:blipFill>
          <a:blip r:embed="rId1"/>
          <a:stretch/>
        </p:blipFill>
        <p:spPr>
          <a:xfrm>
            <a:off x="684360" y="1557360"/>
            <a:ext cx="345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洋繡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疝痛、腹痛、腹瀉、嘔吐、呼吸集迫、便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盆景、花壇栽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日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洋繡球"/>
          <p:cNvPicPr/>
          <p:nvPr/>
        </p:nvPicPr>
        <p:blipFill>
          <a:blip r:embed="rId1"/>
          <a:stretch/>
        </p:blipFill>
        <p:spPr>
          <a:xfrm>
            <a:off x="826920" y="1628640"/>
            <a:ext cx="352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軟枝黃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 全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 ：嘔吐瀉痢，發高燒、噁心、嘴唇紅腫、口乾舌噪、皮膚紅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軟枝黃蟬"/>
          <p:cNvPicPr/>
          <p:nvPr/>
        </p:nvPicPr>
        <p:blipFill>
          <a:blip r:embed="rId1"/>
          <a:stretch/>
        </p:blipFill>
        <p:spPr>
          <a:xfrm>
            <a:off x="755640" y="1989000"/>
            <a:ext cx="3384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女貞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樹皮、葉、果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四肢無力、瞳孔放大、下痢、無精打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盆景、綠籬、庭園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日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4" descr="女貞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麒麟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症狀：口部、喉部、胃部不適，嘔吐，腹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植及盆栽種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馬達加斯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麒麟花"/>
          <p:cNvPicPr/>
          <p:nvPr/>
        </p:nvPicPr>
        <p:blipFill>
          <a:blip r:embed="rId1"/>
          <a:stretch/>
        </p:blipFill>
        <p:spPr>
          <a:xfrm>
            <a:off x="900000" y="1844640"/>
            <a:ext cx="30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非洲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水泡，皮膚發炎，口部起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園樹、綠籬及盆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地：西印度、熱帶非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非洲紅"/>
          <p:cNvPicPr/>
          <p:nvPr/>
        </p:nvPicPr>
        <p:blipFill>
          <a:blip r:embed="rId1"/>
          <a:stretch/>
        </p:blipFill>
        <p:spPr>
          <a:xfrm>
            <a:off x="755640" y="1773360"/>
            <a:ext cx="3529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文珠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嘔吐、便秘、下瀉、，體溫上升、神經系統麻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植或大花盆盆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於：熱帶亞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文珠蘭"/>
          <p:cNvPicPr/>
          <p:nvPr/>
        </p:nvPicPr>
        <p:blipFill>
          <a:blip r:embed="rId1"/>
          <a:stretch/>
        </p:blipFill>
        <p:spPr>
          <a:xfrm>
            <a:off x="826920" y="1341360"/>
            <a:ext cx="3529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西洋白花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視覺模糊、四肢無力、頭痛、頭暈、瞳孔放大、失明、癱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庭園或花壇種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：熱帶非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西洋白花菜"/>
          <p:cNvPicPr/>
          <p:nvPr/>
        </p:nvPicPr>
        <p:blipFill>
          <a:blip r:embed="rId2"/>
          <a:stretch/>
        </p:blipFill>
        <p:spPr>
          <a:xfrm>
            <a:off x="468360" y="170028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鳶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消化道及肝臟發炎，嘔吐、下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觀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產於：中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鳶尾"/>
          <p:cNvPicPr/>
          <p:nvPr/>
        </p:nvPicPr>
        <p:blipFill>
          <a:blip r:embed="rId2"/>
          <a:stretch/>
        </p:blipFill>
        <p:spPr>
          <a:xfrm>
            <a:off x="755640" y="1557360"/>
            <a:ext cx="324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粗肋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毒部位：全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毒症狀：口舌發炎、腹瀉、胃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地區：室內盆栽或庭園原產：馬來西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粗肋草"/>
          <p:cNvPicPr/>
          <p:nvPr/>
        </p:nvPicPr>
        <p:blipFill>
          <a:blip r:embed="rId2"/>
          <a:stretch/>
        </p:blipFill>
        <p:spPr>
          <a:xfrm>
            <a:off x="971640" y="1484280"/>
            <a:ext cx="31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1:38:18Z</dcterms:created>
  <dc:creator>User</dc:creator>
  <dc:description/>
  <dc:language>en-US</dc:language>
  <cp:lastModifiedBy>user</cp:lastModifiedBy>
  <dcterms:modified xsi:type="dcterms:W3CDTF">2011-11-02T01:32:54Z</dcterms:modified>
  <cp:revision>5</cp:revision>
  <dc:subject/>
  <dc:title>有毒植物</dc:title>
</cp:coreProperties>
</file>