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E73-79F9-49DA-91D3-55A255FB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90E-2E21-47EF-B38C-0516304F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438-966F-4976-85A1-610968A5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A5C-4F82-4B88-90D5-31A6BC44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C13-6A91-4C53-8EA4-4A4D1B84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BE3-A20E-4EC9-B850-B9362927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0C4-F52F-43D7-9C23-4DD5D3B8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C56-C234-431D-BDBA-34C96E37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D96-7303-4F79-8C4B-2B0C5774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5DE-1489-422C-95D0-0F1450ED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59B-086E-4389-A13A-FCD8D080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A90-A5BF-4C9B-B655-C1D858EB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2280-655D-4DBD-9988-A2CD1690D87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Arial"/>
              </a:rPr>
              <a:t>有毒動植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第三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張乃文 陳冬梅 黃馨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6618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長春花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種子具顆粒狀小突起。別稱 日日春、日日草、日日新、三萬花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全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人畜誤食，造成細胞萎縮、肌肉無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全省各地普遍栽植，並有歸化情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2.JPG2" descr="長春花2.JPG (7976 bytes)"/>
          <p:cNvPicPr/>
          <p:nvPr/>
        </p:nvPicPr>
        <p:blipFill>
          <a:blip r:embed="rId1"/>
          <a:stretch/>
        </p:blipFill>
        <p:spPr>
          <a:xfrm>
            <a:off x="0" y="2060640"/>
            <a:ext cx="50054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雞蛋花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2920" y="112500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冬季落葉。外部乳白，內部黃色，具芳香，花色粉紅或濃紅。夏秋開花，白色，中央黃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誤食造成嘔吐、腹瀉、發燒、心跳加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台灣各地庭園、校園普遍分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雞蛋花花-1" descr="雞蛋花花-1.JPG (7178 bytes)"/>
          <p:cNvPicPr/>
          <p:nvPr/>
        </p:nvPicPr>
        <p:blipFill>
          <a:blip r:embed="rId1"/>
          <a:stretch/>
        </p:blipFill>
        <p:spPr>
          <a:xfrm>
            <a:off x="0" y="2133720"/>
            <a:ext cx="4524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山馬茶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花冠白色，葉面有黃色斑紋，觀花賞菜兩相宜。花期夏、秋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全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誤食枝葉或花朵引起嘔吐、腹痛、腹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印度、緬甸、馬來西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山馬茶-1" descr="山馬茶-1.jpg (7610 bytes)"/>
          <p:cNvPicPr/>
          <p:nvPr/>
        </p:nvPicPr>
        <p:blipFill>
          <a:blip r:embed="rId1"/>
          <a:stretch/>
        </p:blipFill>
        <p:spPr>
          <a:xfrm>
            <a:off x="179280" y="1844640"/>
            <a:ext cx="44989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咬人貓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夏秋季開花。綠白色。別稱 蕁麻、刺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全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皮膚觸及焮毛，有立即的刺痛或灼痛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布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全省低至中、高海拔山區。常成群生於溼林下。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ther43" descr="wpe6.jpg (7275 bytes)"/>
          <p:cNvPicPr/>
          <p:nvPr/>
        </p:nvPicPr>
        <p:blipFill>
          <a:blip r:embed="rId1"/>
          <a:stretch/>
        </p:blipFill>
        <p:spPr>
          <a:xfrm>
            <a:off x="684360" y="2205000"/>
            <a:ext cx="31273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水仙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有濃郁芳香，黃色。別稱 雅蒜、天蔥、金盞銀臺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全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嘔吐、腹瀉、冒冷汗、體溫上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臺灣普遍栽培，極常見。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mar4.1" descr="wpe5.jpg (3527 bytes)"/>
          <p:cNvPicPr/>
          <p:nvPr/>
        </p:nvPicPr>
        <p:blipFill>
          <a:blip r:embed="rId1"/>
          <a:stretch/>
        </p:blipFill>
        <p:spPr>
          <a:xfrm>
            <a:off x="539640" y="2205000"/>
            <a:ext cx="3930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海芋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2920" y="112500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多色。漿果球形，成熟時深紅。別稱 山芋、觀音蓮、海芋、天荷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全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嘔吐、腹瀉、冒冷汗、腹瀉、虛弱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河邊或陰濕之荒廢地間。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海芋-1" descr="海芋-1.jpg (7831 bytes)"/>
          <p:cNvPicPr/>
          <p:nvPr/>
        </p:nvPicPr>
        <p:blipFill>
          <a:blip r:embed="rId1"/>
          <a:stretch/>
        </p:blipFill>
        <p:spPr>
          <a:xfrm>
            <a:off x="395280" y="2205000"/>
            <a:ext cx="43369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日日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四季開花。全年均能開花，花冠紅色，另有粉紅品種。別稱 琴葉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誤觸乳汁引起水泡或膿包，皮膚嚴重發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西印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日日櫻-1" descr="日日櫻-1.jpg (8094 bytes)"/>
          <p:cNvPicPr/>
          <p:nvPr/>
        </p:nvPicPr>
        <p:blipFill>
          <a:blip r:embed="rId1"/>
          <a:stretch/>
        </p:blipFill>
        <p:spPr>
          <a:xfrm>
            <a:off x="1314360" y="2820960"/>
            <a:ext cx="23241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雞母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落葉性攀緣灌木，種子頂端有帽狀的黑點。別稱 相思子、紅珠木、雞母子、雞母真珠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種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少量時惡心，量多時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布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 ：中南部之海邊 、河岸、山路及原野路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ther41" descr="wpe1.jpg (9342 bytes)"/>
          <p:cNvPicPr/>
          <p:nvPr/>
        </p:nvPicPr>
        <p:blipFill>
          <a:blip r:embed="rId1"/>
          <a:stretch/>
        </p:blipFill>
        <p:spPr>
          <a:xfrm>
            <a:off x="468360" y="2421000"/>
            <a:ext cx="39146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短果苦瓜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全株具特異之臭氣，花冠鮮黃色。成熟時果皮轉為橙色，露出被有深紅色假種皮的種子。別稱野苦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種子及果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誤食果肉及種子，會引起嘔吐及腹瀉等症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分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最近幾年歸化到台灣南部，臺南、高雄、屏東三縣極為常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短果苦瓜花-1" descr="短果苦瓜花-1.JPG (5646 bytes)"/>
          <p:cNvPicPr/>
          <p:nvPr/>
        </p:nvPicPr>
        <p:blipFill>
          <a:blip r:embed="rId1"/>
          <a:stretch/>
        </p:blipFill>
        <p:spPr>
          <a:xfrm>
            <a:off x="179280" y="1989000"/>
            <a:ext cx="42404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使君子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2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幼時全株被鏽色柔毛。花瓣由自變紅，有香氣果實橄欖狀，成熟時黑褐色，別稱 留求子、水君木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種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生吃大量種仁，常發生頭痛、眩暈、噁心、嘔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分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熱帶亞洲，全省各地庭園普遍種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使君子花-1" descr="使君子花-1.JPG (9783 bytes)"/>
          <p:cNvPicPr/>
          <p:nvPr/>
        </p:nvPicPr>
        <p:blipFill>
          <a:blip r:embed="rId1"/>
          <a:stretch/>
        </p:blipFill>
        <p:spPr>
          <a:xfrm>
            <a:off x="179280" y="1413000"/>
            <a:ext cx="424044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仙客來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0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葉色濃綠，表面散布銀灰色斑塊。冬至春季開花，種子有黏性。別稱一品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塊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人畜誤食，會有頭昏、嘔吐、腹瀉等症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原產地中海沿岸，日前臺灣各地普遍栽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仙客來-1" descr="仙客來-1.jpg (7441 bytes)"/>
          <p:cNvPicPr/>
          <p:nvPr/>
        </p:nvPicPr>
        <p:blipFill>
          <a:blip r:embed="rId1"/>
          <a:stretch/>
        </p:blipFill>
        <p:spPr>
          <a:xfrm>
            <a:off x="395280" y="2133720"/>
            <a:ext cx="37386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咬人狗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292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常綠喬木，小枝粗壯，幼嫩部分及花序被有白色柔毛，半透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焮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中毒症狀 皮膚觸及焮毛，會有灼痛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布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本省中、南部之海岸、溪岸及山麓叢林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咬人狗-01" descr="咬人狗-01.jpg (5131 bytes)"/>
          <p:cNvPicPr/>
          <p:nvPr/>
        </p:nvPicPr>
        <p:blipFill>
          <a:blip r:embed="rId1"/>
          <a:stretch/>
        </p:blipFill>
        <p:spPr>
          <a:xfrm>
            <a:off x="395280" y="1773360"/>
            <a:ext cx="3905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台灣百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葉厚紙質或肉質，冬枯，單花或總狀花序，白色花被中肋帶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鱗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嘔吐、腹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全省各地從海濱到高山，普遍分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百合11-1" descr="百合11-1.jpg (2233 bytes)"/>
          <p:cNvPicPr/>
          <p:nvPr/>
        </p:nvPicPr>
        <p:blipFill>
          <a:blip r:embed="rId1"/>
          <a:stretch/>
        </p:blipFill>
        <p:spPr>
          <a:xfrm>
            <a:off x="250920" y="2349360"/>
            <a:ext cx="38113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安石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，花瓣紅色，淡黃色或白色。別稱 石榴、榭榴、謝榴、紅石榴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根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腹痛、惡心、嘔吐、視覺模糊、頭痛頭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臺灣各地普遍栽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安石榴花-1" descr="安石榴花-1.JPG (8889 bytes)"/>
          <p:cNvPicPr/>
          <p:nvPr/>
        </p:nvPicPr>
        <p:blipFill>
          <a:blip r:embed="rId1"/>
          <a:stretch/>
        </p:blipFill>
        <p:spPr>
          <a:xfrm>
            <a:off x="324000" y="1844640"/>
            <a:ext cx="3666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夾竹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特徵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常綠性灌木。花瓣桃紅、粉紅或白色。別稱 啞巴花、桃竹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有毒部位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全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中毒症狀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嘔吐、腹部抽筋、暈眩、昏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分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全島海邊、庭園、耕地、行道等，高速公路中央分隔島上也有大量種植。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apoc51.JPG_" descr="夾竹桃.JPG (14449 bytes)"/>
          <p:cNvPicPr/>
          <p:nvPr/>
        </p:nvPicPr>
        <p:blipFill>
          <a:blip r:embed="rId1"/>
          <a:stretch/>
        </p:blipFill>
        <p:spPr>
          <a:xfrm>
            <a:off x="684360" y="1484280"/>
            <a:ext cx="31096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4:12:04Z</dcterms:created>
  <dc:creator>User</dc:creator>
  <dc:description/>
  <dc:language>en-US</dc:language>
  <cp:lastModifiedBy>user</cp:lastModifiedBy>
  <dcterms:modified xsi:type="dcterms:W3CDTF">2011-11-02T01:33:12Z</dcterms:modified>
  <cp:revision>5</cp:revision>
  <dc:subject/>
  <dc:title>投影片 1</dc:title>
</cp:coreProperties>
</file>